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3101-3E9B-40E5-8C6D-1D79C73EF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1BB4-1F8A-4C3E-8A1D-358655581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D284-C99E-4609-962F-445CEC41F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16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780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05DD-C368-4590-A613-851A34A95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4BD8-3D0C-4605-B36E-AF9E98791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2416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780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49A8-E4D1-4EA3-B87E-DDEA2F0317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D1A1-4A81-477C-9945-0BE4C0215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270F-B165-4635-8D7C-6DDBC10E66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F81B-0AE1-4634-91C1-7C4F5DB87B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E2EA-A497-45A8-B0E9-CF1E35544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7395-B9F4-4B83-B37B-71525F9DBF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FB2A-C9F6-4CBC-9DC6-98E1FFB1DA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5F10-B219-46E8-B48D-FB340A1FFC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E581-5209-482A-AFE4-BF392CA729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7342-FB77-4EA5-AD00-D078C80DE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E49B-2C6D-4228-A3E3-499B5BDDFF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740E-0571-47E7-9B31-8201CF4284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52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2416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6780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C7CD-1DBB-44F3-A3BE-CF6471170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448C-32BD-4986-BD9B-4D6C218AE1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52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2416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67800" y="3547080"/>
            <a:ext cx="2707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4F8C-6853-4E37-AF17-404E3EDDD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2436-69E1-49B2-B896-17CD978B7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6205-DDA2-452B-9A87-1FE4DF079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0440" y="354708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8273-66DF-4F0C-B227-B9D6E2343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547080"/>
            <a:ext cx="8410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09FA-29CE-4CA5-843F-2BB3197DF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2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3280" indent="-384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94200" y="6504120"/>
            <a:ext cx="1155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5c4e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DD2-89DB-4CD7-A1DD-5B822A587DFD}" type="slidenum">
              <a:rPr b="1" lang="en-US" sz="1400" spc="-1" strike="noStrike">
                <a:solidFill>
                  <a:srgbClr val="a5c4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701720"/>
            <a:ext cx="80773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2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3280" indent="-384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976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2"/>
          </p:nvPr>
        </p:nvSpPr>
        <p:spPr>
          <a:xfrm>
            <a:off x="3994200" y="6504120"/>
            <a:ext cx="1155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5c4e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216-761A-454A-9B0C-B5EB9B675FA9}" type="slidenum">
              <a:rPr b="1" lang="en-US" sz="1400" spc="-1" strike="noStrike">
                <a:solidFill>
                  <a:srgbClr val="a5c4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701720"/>
            <a:ext cx="80773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223920" algn="ctr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79360" indent="23976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33600" indent="22212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33600" indent="2221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33600" indent="2221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microsoft.com/whdc/hwdev/tech/audio/default.mspx" TargetMode="External"/><Relationship Id="rId2" Type="http://schemas.openxmlformats.org/officeDocument/2006/relationships/hyperlink" Target="http://www.microsoft.com/whdc/hwdev/tech/audio/default.mspx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microsoft.com/communities/default.mspx" TargetMode="External"/><Relationship Id="rId2" Type="http://schemas.openxmlformats.org/officeDocument/2006/relationships/hyperlink" Target="http://communities2.microsoft.com/communities/newsgroups/en-us/default.aspx" TargetMode="External"/><Relationship Id="rId3" Type="http://schemas.openxmlformats.org/officeDocument/2006/relationships/hyperlink" Target="http://www.microsoft.com/communities/chats/default.mspx" TargetMode="External"/><Relationship Id="rId4" Type="http://schemas.openxmlformats.org/officeDocument/2006/relationships/hyperlink" Target="http://www.microsoft.com/seminar/events/webcasts/default.mspx" TargetMode="External"/><Relationship Id="rId5" Type="http://schemas.openxmlformats.org/officeDocument/2006/relationships/hyperlink" Target="http://www.microsoft.com/communities/usergroups/default.mspx" TargetMode="External"/><Relationship Id="rId6" Type="http://schemas.openxmlformats.org/officeDocument/2006/relationships/hyperlink" Target="http://www.microsoft.com/communities/related/default.mspx" TargetMode="Externa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microsoft.com/whdc/ddk/debugging/default.mspx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701720"/>
            <a:ext cx="80773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Windows XP Audio Architecture Overview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440" y="3225600"/>
            <a:ext cx="80773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F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DK 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228600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212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495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4495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4008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3581280"/>
            <a:ext cx="121896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358128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92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22860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532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400800" y="22856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209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5240" y="41911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68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24382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4382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8120" y="335268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ers this new device u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5271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45720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50292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1055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75800" y="4572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6819-5C84-4B65-A840-2D1760495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2480" y="2784600"/>
            <a:ext cx="358164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16800" y="62895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36880" y="50706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89520" y="5527800"/>
            <a:ext cx="1600200" cy="49500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41800" y="560376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veP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44320" y="50706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89520" y="49942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37080" y="4994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065480" y="461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13400" y="461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27400" y="407988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03720" y="415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03920" y="4079880"/>
            <a:ext cx="1218960" cy="533520"/>
          </a:xfrm>
          <a:prstGeom prst="plus">
            <a:avLst>
              <a:gd name="adj" fmla="val 0"/>
            </a:avLst>
          </a:prstGeom>
          <a:gradFill rotWithShape="0">
            <a:gsLst>
              <a:gs pos="0">
                <a:srgbClr val="0066cc"/>
              </a:gs>
              <a:gs pos="100000">
                <a:srgbClr val="004d9b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80600" y="41562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79880" y="40035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56200" y="278460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37080" y="40035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13400" y="278460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18320" y="400356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94280" y="278460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89520" y="400356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065480" y="278460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79680" y="40035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456000" y="36226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79880" y="270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7080" y="270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18320" y="27082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6384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9920" y="46893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91520" y="46893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22480" y="29368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29368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520" y="1508040"/>
            <a:ext cx="64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_DEVICE Virtual Audio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89360" y="24606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37080" y="232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5480" y="2479680"/>
            <a:ext cx="358164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59800" y="59850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79880" y="476568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32520" y="522288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84800" y="529920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veP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7320" y="4765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32520" y="468936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0080" y="46893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08480" y="43084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56400" y="43084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70400" y="377496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46720" y="3851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46920" y="3774960"/>
            <a:ext cx="1218960" cy="533520"/>
          </a:xfrm>
          <a:prstGeom prst="plus">
            <a:avLst>
              <a:gd name="adj" fmla="val 0"/>
            </a:avLst>
          </a:prstGeom>
          <a:gradFill rotWithShape="0">
            <a:gsLst>
              <a:gs pos="0">
                <a:srgbClr val="0066cc"/>
              </a:gs>
              <a:gs pos="100000">
                <a:srgbClr val="004d9b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23600" y="3851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22880" y="36990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99200" y="2479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80080" y="36990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6400" y="2479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61320" y="36990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37280" y="2479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32520" y="36990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208480" y="247932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2680" y="36990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599000" y="33174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22880" y="24033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80080" y="240336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61320" y="240336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72920" y="43848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4520" y="43848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65480" y="26319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80080" y="26319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2360" y="21556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2174760"/>
            <a:ext cx="3581640" cy="40388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02800" y="5680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5520" y="43848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23080" y="43848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351480" y="40032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99400" y="40035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13400" y="3470400"/>
            <a:ext cx="1219320" cy="5331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9720" y="354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89920" y="3470400"/>
            <a:ext cx="1218960" cy="5331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6600" y="3546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65880" y="33940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42200" y="217476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23080" y="33940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799400" y="270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04320" y="33940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80280" y="270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75520" y="33940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51480" y="21744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65680" y="33940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42000" y="3013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75520" y="20988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65880" y="20988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15920" y="4079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77520" y="4079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08480" y="23274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23080" y="2327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0160" y="18493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99200" y="44607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51480" y="491796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04120" y="499428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02800" y="44607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0A08-5131-4015-92B7-AB62263237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Pin Combin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73280" y="268776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67240" y="61927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39960" y="4897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87880" y="4897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916280" y="45165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63840" y="45165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77840" y="398304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54160" y="4059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54360" y="398304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31400" y="4059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30680" y="390672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06640" y="268776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39960" y="390672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16280" y="268776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0480" y="390672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306440" y="35258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39960" y="2611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30680" y="2611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38320" y="188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80360" y="4592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41960" y="4592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3280" y="2840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87880" y="284004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94040" y="2154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31680" y="1620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d Pin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35440" y="2687760"/>
            <a:ext cx="426744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34680" y="61927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07040" y="489744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4960" y="4897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183360" y="45165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31280" y="45165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45280" y="3983040"/>
            <a:ext cx="121896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21240" y="4059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21440" y="398304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8480" y="4059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97760" y="390672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74080" y="268776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07040" y="390672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183360" y="268776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97560" y="390672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573880" y="35258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07040" y="261144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7760" y="2611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05400" y="188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47440" y="4592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09040" y="4592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40360" y="2840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54960" y="284004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37440" y="2154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99840" y="16207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ombined Pin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707240" y="451656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621640" y="268776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545680" y="2611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4888080" y="451656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888080" y="268776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11760" y="261144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11360" y="49737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3640" y="5430960"/>
            <a:ext cx="1600200" cy="49500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16280" y="5506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14960" y="49737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78440" y="49737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1080" y="5430960"/>
            <a:ext cx="1600200" cy="49500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3360" y="550692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82040" y="49737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80B-5044-42A1-8022-A1C49CAEC6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228600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5212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72200" y="45720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50292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51055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75800" y="4572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24480" y="4495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72400" y="4495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4008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62720" y="3581280"/>
            <a:ext cx="121896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38880" y="358128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1592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91520" y="22860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724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532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400800" y="22856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79132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2209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5240" y="41911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9268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24382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400" y="24382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86760" y="2286000"/>
            <a:ext cx="38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rves Pins under the 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rves Pins under 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4419720"/>
            <a:ext cx="30456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419720"/>
            <a:ext cx="3049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4571640" y="388584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4572000" y="3885840"/>
            <a:ext cx="31240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572000" y="28191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4872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40F7-6C4F-453E-98BB-D8E1DF016F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03200" y="1905120"/>
            <a:ext cx="6537600" cy="460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519A-08A4-4E02-B26B-F0F9FAC672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Kernel Mode Summary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228600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9492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45720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50292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51055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8600" y="4572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67280" y="4495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495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9436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3581280"/>
            <a:ext cx="121896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814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81680" y="358128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72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22860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943600" y="22856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2209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08040" y="41911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696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00600" y="24382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15200" y="24382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276720"/>
            <a:ext cx="3886200" cy="1752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4038480"/>
            <a:ext cx="1981080" cy="8002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426708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22920" y="3581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3200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32004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5800" y="2362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6880" y="160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59120" y="160020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2767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33526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7673-E2EC-475B-98A7-4D66AA0E42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724120"/>
            <a:ext cx="80773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ndows XP Audio Architecture – User Mod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367200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95720" y="32907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95000" y="374796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87880" y="2071800"/>
            <a:ext cx="17528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826320" y="2680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826320" y="35190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826320" y="45097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87880" y="290988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87880" y="390060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nel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mainfrm"/>
          <p:cNvSpPr/>
          <p:nvPr/>
        </p:nvSpPr>
        <p:spPr>
          <a:xfrm>
            <a:off x="5867280" y="5653080"/>
            <a:ext cx="1828800" cy="99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ound"/>
          <p:cNvSpPr/>
          <p:nvPr/>
        </p:nvSpPr>
        <p:spPr>
          <a:xfrm>
            <a:off x="6477120" y="5881680"/>
            <a:ext cx="1123920" cy="590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43960" y="5958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1233360"/>
            <a:ext cx="3255840" cy="58608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Wave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781680" y="18428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4E5F-E57F-454C-B82B-1CC3172800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WD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90720" y="1951200"/>
            <a:ext cx="17524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o Server</a:t>
            </a: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udiosrv.d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9393200">
            <a:off x="458640" y="33224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52275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51516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14600" y="51516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143000" y="47700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47703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7440" y="4846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69040" y="4846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5684760"/>
            <a:ext cx="1657440" cy="6098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30040" y="5187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67200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95720" y="32907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95000" y="374796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87880" y="2071800"/>
            <a:ext cx="17528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826320" y="2680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826320" y="35190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826320" y="45097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87880" y="290988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87880" y="390060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nel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mainfrm"/>
          <p:cNvSpPr/>
          <p:nvPr/>
        </p:nvSpPr>
        <p:spPr>
          <a:xfrm>
            <a:off x="5867280" y="5653080"/>
            <a:ext cx="1828800" cy="99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Sound"/>
          <p:cNvSpPr/>
          <p:nvPr/>
        </p:nvSpPr>
        <p:spPr>
          <a:xfrm>
            <a:off x="6477120" y="5881680"/>
            <a:ext cx="1123920" cy="590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43960" y="5958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1233360"/>
            <a:ext cx="3255840" cy="58608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Wave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18428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6A24-4DC5-4092-AC32-65339672CD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008160" y="2057400"/>
            <a:ext cx="2286000" cy="304920"/>
          </a:xfrm>
          <a:custGeom>
            <a:avLst/>
            <a:gdLst>
              <a:gd name="textAreaLeft" fmla="*/ 357120 w 2286000"/>
              <a:gd name="textAreaRight" fmla="*/ 2000520 w 22860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WD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-585720"/>
            <a:ext cx="8382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90720" y="1951200"/>
            <a:ext cx="17524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o Server</a:t>
            </a: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udiosrv.d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9393200">
            <a:off x="458640" y="33224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52275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51516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14600" y="51516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143000" y="47700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47703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7440" y="4846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69040" y="4846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5684760"/>
            <a:ext cx="1657440" cy="6098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30040" y="5187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67200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95720" y="32907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95000" y="374796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87880" y="2071800"/>
            <a:ext cx="17528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826320" y="2680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826320" y="35190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826320" y="45097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87880" y="290988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987880" y="3900600"/>
            <a:ext cx="1657440" cy="6094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nel Mo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mainfrm"/>
          <p:cNvSpPr/>
          <p:nvPr/>
        </p:nvSpPr>
        <p:spPr>
          <a:xfrm>
            <a:off x="5867280" y="5653080"/>
            <a:ext cx="1828800" cy="99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Sound"/>
          <p:cNvSpPr/>
          <p:nvPr/>
        </p:nvSpPr>
        <p:spPr>
          <a:xfrm>
            <a:off x="6477120" y="5881680"/>
            <a:ext cx="1123920" cy="590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43960" y="5958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57800" y="1233360"/>
            <a:ext cx="3255840" cy="58608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Wave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781680" y="18428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5440" y="2989440"/>
            <a:ext cx="5867640" cy="1191240"/>
          </a:xfrm>
          <a:prstGeom prst="rect">
            <a:avLst/>
          </a:prstGeom>
          <a:solidFill>
            <a:srgbClr val="474f5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R,Drivers,SubClasses,,"wave,midi,mixer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R,Drivers\wave\wdmaud.drv,Driver,,wdmaud.d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R,Drivers\midi\wdmaud.drv,Driver,,wdmaud.d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R,Drivers\mixer\wdmaud.drv,Driver,,wdmaud.d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66D9-80DA-4774-8E80-91056C3478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ession Goal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36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es should leave this session with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tter understanding of Window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P Audio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e system components expose different views of an audio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determine the path audio will take to your driver based on the API’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5137-02B3-4BDA-A8EE-1A1E68140F8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WD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66408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95720" y="32828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95000" y="374004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905440" y="2063880"/>
            <a:ext cx="17528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826320" y="2673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826320" y="3511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mainfrm"/>
          <p:cNvSpPr/>
          <p:nvPr/>
        </p:nvSpPr>
        <p:spPr>
          <a:xfrm>
            <a:off x="5867280" y="5645160"/>
            <a:ext cx="1828800" cy="99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Sound"/>
          <p:cNvSpPr/>
          <p:nvPr/>
        </p:nvSpPr>
        <p:spPr>
          <a:xfrm>
            <a:off x="6477120" y="5873760"/>
            <a:ext cx="1123920" cy="590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43960" y="5950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225440"/>
            <a:ext cx="3255840" cy="585720"/>
          </a:xfrm>
          <a:prstGeom prst="rect">
            <a:avLst/>
          </a:prstGeom>
          <a:gradFill rotWithShape="0">
            <a:gsLst>
              <a:gs pos="0">
                <a:srgbClr val="474f5b"/>
              </a:gs>
              <a:gs pos="100000">
                <a:srgbClr val="3e4650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Wave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781680" y="1834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2901960"/>
            <a:ext cx="19810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AUD.D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3892680"/>
            <a:ext cx="19810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AUD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08160" y="2057400"/>
            <a:ext cx="2286000" cy="304920"/>
          </a:xfrm>
          <a:custGeom>
            <a:avLst/>
            <a:gdLst>
              <a:gd name="textAreaLeft" fmla="*/ 357120 w 2286000"/>
              <a:gd name="textAreaRight" fmla="*/ 2000520 w 22860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1951200"/>
            <a:ext cx="17524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o Server</a:t>
            </a: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udiosrv.d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9393200">
            <a:off x="458640" y="33224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2275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51516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4600" y="51516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143000" y="47700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0920" y="47703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7440" y="4846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9040" y="4846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5684760"/>
            <a:ext cx="1657440" cy="6098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0040" y="5187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C6FA-A520-4C77-83B6-2278FEBBEE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 rot="5400000">
            <a:off x="6438600" y="4014720"/>
            <a:ext cx="838440" cy="761760"/>
          </a:xfrm>
          <a:custGeom>
            <a:avLst/>
            <a:gdLst>
              <a:gd name="textAreaLeft" fmla="*/ 131040 w 838440"/>
              <a:gd name="textAreaRight" fmla="*/ 733680 w 8384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WD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66408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95720" y="32828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95000" y="374004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05440" y="2063880"/>
            <a:ext cx="17528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826320" y="2673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826320" y="3511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mainfrm"/>
          <p:cNvSpPr/>
          <p:nvPr/>
        </p:nvSpPr>
        <p:spPr>
          <a:xfrm>
            <a:off x="5911920" y="5645160"/>
            <a:ext cx="1828800" cy="99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ound"/>
          <p:cNvSpPr/>
          <p:nvPr/>
        </p:nvSpPr>
        <p:spPr>
          <a:xfrm>
            <a:off x="6521400" y="5873760"/>
            <a:ext cx="1123920" cy="590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225440"/>
            <a:ext cx="3255840" cy="585720"/>
          </a:xfrm>
          <a:prstGeom prst="rect">
            <a:avLst/>
          </a:prstGeom>
          <a:gradFill rotWithShape="0">
            <a:gsLst>
              <a:gs pos="0">
                <a:srgbClr val="474f5b"/>
              </a:gs>
              <a:gs pos="100000">
                <a:srgbClr val="3e4650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Wave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781680" y="1834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2901960"/>
            <a:ext cx="19810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AUD.D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791320" y="3892680"/>
            <a:ext cx="19810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AUD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08160" y="2057400"/>
            <a:ext cx="2286000" cy="304920"/>
          </a:xfrm>
          <a:custGeom>
            <a:avLst/>
            <a:gdLst>
              <a:gd name="textAreaLeft" fmla="*/ 357120 w 2286000"/>
              <a:gd name="textAreaRight" fmla="*/ 2000520 w 22860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1951200"/>
            <a:ext cx="175248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o Server</a:t>
            </a: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udiosrv.d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9393200">
            <a:off x="458640" y="33224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522756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515160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14600" y="515160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143000" y="477000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90920" y="47703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7440" y="4846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69040" y="4846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5684760"/>
            <a:ext cx="1657440" cy="6098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30040" y="5187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02080" y="4815000"/>
            <a:ext cx="3124440" cy="19810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39000" y="55767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40520" y="5958000"/>
            <a:ext cx="1662120" cy="6890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92800" y="6262560"/>
            <a:ext cx="1395360" cy="298440"/>
          </a:xfrm>
          <a:prstGeom prst="rect">
            <a:avLst/>
          </a:prstGeom>
          <a:gradFill rotWithShape="0">
            <a:gsLst>
              <a:gs pos="0">
                <a:srgbClr val="b6734e"/>
              </a:gs>
              <a:gs pos="100000">
                <a:srgbClr val="784b33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69120" y="6262560"/>
            <a:ext cx="129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95680" y="59580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35560" y="588492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07160" y="588492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292800" y="5652720"/>
            <a:ext cx="180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64400" y="5653080"/>
            <a:ext cx="180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62520" y="5330880"/>
            <a:ext cx="106380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35600" y="527220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326360" y="5348160"/>
            <a:ext cx="1063440" cy="3225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60200" y="52722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35800" y="473868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512120" y="4815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54880" y="524844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78360" y="527544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35600" y="481464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59280" y="473868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47400" y="45194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90240" y="45194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3DAE-D01B-4B1B-BB82-4A686E43EC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Legacy Wave API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WD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1600200"/>
            <a:ext cx="1981440" cy="609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AUD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3429000"/>
            <a:ext cx="3429000" cy="26668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5240" y="55627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524400" y="449892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96000" y="449892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581280" y="4267080"/>
            <a:ext cx="1800" cy="23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52880" y="4267080"/>
            <a:ext cx="1800" cy="23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70160" y="3932280"/>
            <a:ext cx="1063800" cy="398880"/>
            <a:chOff x="3170160" y="3932280"/>
            <a:chExt cx="1063800" cy="398880"/>
          </a:xfrm>
        </p:grpSpPr>
        <p:sp>
          <p:nvSpPr>
            <p:cNvPr id="668" name=""/>
            <p:cNvSpPr/>
            <p:nvPr/>
          </p:nvSpPr>
          <p:spPr>
            <a:xfrm>
              <a:off x="3170160" y="3968640"/>
              <a:ext cx="1063800" cy="322200"/>
            </a:xfrm>
            <a:prstGeom prst="plus">
              <a:avLst>
                <a:gd name="adj" fmla="val 0"/>
              </a:avLst>
            </a:prstGeom>
            <a:solidFill>
              <a:srgbClr val="5c93d6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05080" y="3932280"/>
              <a:ext cx="9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plit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648320" y="3932280"/>
            <a:ext cx="1063440" cy="398880"/>
            <a:chOff x="4648320" y="3932280"/>
            <a:chExt cx="1063440" cy="398880"/>
          </a:xfrm>
        </p:grpSpPr>
        <p:sp>
          <p:nvSpPr>
            <p:cNvPr id="671" name=""/>
            <p:cNvSpPr/>
            <p:nvPr/>
          </p:nvSpPr>
          <p:spPr>
            <a:xfrm>
              <a:off x="4648320" y="3970440"/>
              <a:ext cx="1063440" cy="322200"/>
            </a:xfrm>
            <a:prstGeom prst="plus">
              <a:avLst>
                <a:gd name="adj" fmla="val 0"/>
              </a:avLst>
            </a:prstGeom>
            <a:solidFill>
              <a:srgbClr val="5c93d6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93320" y="393228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Mix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876920" y="3352680"/>
            <a:ext cx="1332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3429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96000" y="3886200"/>
            <a:ext cx="133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388620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58128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05320" y="3352680"/>
            <a:ext cx="1332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93440" y="35053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505320" y="3886200"/>
            <a:ext cx="133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3640" y="35053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3771720" y="2476440"/>
            <a:ext cx="1143000" cy="7617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506920" y="1905120"/>
            <a:ext cx="3105360" cy="101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Pin View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5320" y="4572000"/>
            <a:ext cx="1662120" cy="6890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4876920"/>
            <a:ext cx="1395360" cy="2984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4876920"/>
            <a:ext cx="129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660480" y="45720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73D1-CD90-4C98-B0B3-988B8DF72CA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ound Architectur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3886200"/>
            <a:ext cx="4495680" cy="26668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85240" y="60199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505320" y="5029200"/>
            <a:ext cx="1662120" cy="9144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5562720"/>
            <a:ext cx="1395360" cy="2984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57600" y="556272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60480" y="5105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00360" y="495612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71960" y="495612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657600" y="4724280"/>
            <a:ext cx="1440" cy="23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4724280"/>
            <a:ext cx="1440" cy="23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7320" y="4402080"/>
            <a:ext cx="106380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00400" y="434340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724280" y="4419720"/>
            <a:ext cx="106380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725000" y="43434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52880" y="3809880"/>
            <a:ext cx="13356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3886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4343400"/>
            <a:ext cx="152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00360" y="4343400"/>
            <a:ext cx="133560" cy="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657600" y="38862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581280" y="3809880"/>
            <a:ext cx="13356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69400" y="3962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259600" y="3962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5400000">
            <a:off x="3771720" y="2857320"/>
            <a:ext cx="1143000" cy="7617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506560" y="1821960"/>
            <a:ext cx="3637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n-Combined Pin View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SCATEGORY_AUDIO_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52680" y="1981080"/>
            <a:ext cx="1981440" cy="6098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Sound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95720" y="25146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95000" y="297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43400" y="1600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362320" y="3885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809880"/>
            <a:ext cx="1332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105520" y="4648320"/>
            <a:ext cx="11430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6248520" y="3885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72200" y="3809880"/>
            <a:ext cx="1332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643120" y="1135080"/>
            <a:ext cx="3408480" cy="58572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using DSound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633B-D3AB-4E1F-BCB4-424B6BDEE8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ound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Hardware Acceleration Support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106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4360" indent="-414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provide Pin Factory with the following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PIN_COMMUNICATION_S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PIN_DATAFLOW_IN (Render P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DATAFORMAT_SPECIFIER_DSOUND (PortCls provides th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PIN_CINSTANCES.PossibleCount &gt;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he KSPROPERTY_AUDIO_CPU_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1480" indent="-2746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KSAUDIO_CPU_RESOURCES_NOT_HOST_CPU for all nodes that are hardware accelera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-349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  DirectSound node-order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6933-A8E9-4C28-B756-B535C243E0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7804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DirectShow is a user mode based architecture for streaming media on the Microsoft Windows 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e basic user mode filter typ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or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51040" indent="-274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Pin – Live stre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851040" indent="-274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ll Pin   – File stre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391520" cy="32781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295280" y="243828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657240" y="2514600"/>
            <a:ext cx="7621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343400" y="2514600"/>
            <a:ext cx="763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72200" y="2514600"/>
            <a:ext cx="15228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3B18-6D03-45FE-AAE2-AB7A5A59E6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006800" cy="51814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2133720" y="914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Edt.Exe Graph/Insert Filters dialog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57F7-B233-4B30-8F69-DAFE6A36D73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DirectShow Filter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7631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Device Enumerator Class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7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 and Pl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EF_DEVMON_PNP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7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Manag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EF_DEVMON_CMGR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7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EF_DEVMON_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7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X Media Obj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EF_DEVMON_D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8B74-2577-4AB3-B679-378D7A0E51C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lug And Play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520" y="1517760"/>
            <a:ext cx="8410680" cy="12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DM Streaming Capture Devices” = KSCATEGORY_CAP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SPROXY.AX communicates directly to the Class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DM Streaming Render Devices” = KSCATEGORY_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SPROXY.AX communicates directly to the Class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5029200"/>
            <a:ext cx="3581280" cy="10666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5486400"/>
            <a:ext cx="167652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556272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96040" y="50292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49528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62720" y="49528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66880" y="51055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181840" y="51055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695720" y="39625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95000" y="4419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438280" y="2819520"/>
            <a:ext cx="4038840" cy="10666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14600" y="3276720"/>
            <a:ext cx="10666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SProx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0481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886200" y="3276720"/>
            <a:ext cx="1066680" cy="45720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181480" y="3276720"/>
            <a:ext cx="106704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SProx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81280" y="3505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95288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38160" y="287028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Show Gra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2603-7629-462F-8938-76184BF6091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lug And Play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520" y="1817280"/>
            <a:ext cx="81075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DM Streaming System Devices” = KSCATEGORY_AUDIO_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966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PROXY.AX communicates through SysA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771680" y="39625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95000" y="4419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4673520"/>
            <a:ext cx="3124080" cy="18288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20600" y="61722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657600" y="5511960"/>
            <a:ext cx="1662120" cy="6886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74960" y="5635800"/>
            <a:ext cx="1395360" cy="2984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594360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36800" y="56386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753000" y="543888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24600" y="521028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809880" y="5206680"/>
            <a:ext cx="180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29200" y="5283360"/>
            <a:ext cx="144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4978440"/>
            <a:ext cx="106344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497844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4978440"/>
            <a:ext cx="106380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720" y="49784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57800" y="459756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4673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57800" y="490212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368520" y="492300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425760" y="4673160"/>
            <a:ext cx="3240" cy="322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52680" y="459756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2844720"/>
            <a:ext cx="4038480" cy="10670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90920" y="3301920"/>
            <a:ext cx="10666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SProx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3301920"/>
            <a:ext cx="1066680" cy="45720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57800" y="3301920"/>
            <a:ext cx="10666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SProx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57600" y="3530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530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503160" y="289548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Show Gra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429000" y="375876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34120" y="37591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36D5-55CF-4F07-98FF-0C54FEBB38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ession Outlin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45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ce Interface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 System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Filte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Wave AP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ound AP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how AP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4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25D6-2D49-4E62-8680-DEE460B4A8C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lug And Play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687240" y="2101680"/>
            <a:ext cx="7767720" cy="42055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80880" y="160668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NP enumerator inserts the prefix “ @ device:pnp:” to the Device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67000" y="3327480"/>
            <a:ext cx="1371600" cy="380880"/>
          </a:xfrm>
          <a:prstGeom prst="ellipse">
            <a:avLst/>
          </a:prstGeom>
          <a:noFill/>
          <a:ln w="25560">
            <a:solidFill>
              <a:srgbClr val="f98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376440" y="1904760"/>
            <a:ext cx="1322640" cy="1338120"/>
          </a:xfrm>
          <a:prstGeom prst="line">
            <a:avLst/>
          </a:prstGeom>
          <a:ln w="9360">
            <a:solidFill>
              <a:srgbClr val="f982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0C88-0D55-4C1A-80D5-9DEDB657A5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lug And Play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520" y="1906200"/>
            <a:ext cx="8334360" cy="16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lug and Play Enumerator looks for specific Device Interface guids und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854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KEY_LOCAL_MACHINE\SYSTEM\CurrentControlSet\Control\DeviceClasses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then enumerates the device instances found under these specific Device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ntries that have a “Device Parameters” subkey, the CLSID value is 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CLSID value points to the DirectShow filter that will represent that device in a DirectShow gra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52280" y="4146480"/>
            <a:ext cx="899172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67E6-9F80-4183-AC96-624668A549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Class Manager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66840" y="1904760"/>
            <a:ext cx="8410320" cy="31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merates DirectShow Clas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d fil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cy Wave Capture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cy Wave Render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Sound Render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820C-B184-4F2C-A0A4-DE7D613B664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Class Manager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520" y="1672920"/>
            <a:ext cx="85345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5200" indent="-295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acy Wave Capture API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960" indent="-303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  <a:tab algn="l" pos="5878440"/>
                <a:tab algn="l" pos="6134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t of devices located by the waveIn*() API’s can be found a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KEY_CURRENT_USER\Software\Microsoft\ActiveMovie\devenum\{33D9A762-90C8-11D0-BD43-00A0C911CE86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QCAP.DLL as the DirectShow Fil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lass Manager appends “ @ device:cm:” to the device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424160" y="3595680"/>
            <a:ext cx="6295680" cy="29574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070080" y="4871880"/>
            <a:ext cx="914400" cy="381240"/>
          </a:xfrm>
          <a:prstGeom prst="ellipse">
            <a:avLst/>
          </a:prstGeom>
          <a:noFill/>
          <a:ln w="25560">
            <a:solidFill>
              <a:srgbClr val="f98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19600" y="3429000"/>
            <a:ext cx="1054080" cy="1463760"/>
          </a:xfrm>
          <a:prstGeom prst="line">
            <a:avLst/>
          </a:prstGeom>
          <a:ln w="9360">
            <a:solidFill>
              <a:srgbClr val="f982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5D5F-5B15-4C27-BEE0-1670F42931F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Class Manager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4920" y="162216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gacy Wave Render API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53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st of devices located by the waveOut() API’s can be found at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KEY_CURRENT_USER\Software\Microsoft\ActiveMovie\devenum\{E0F158E1-CB04-11D0-BD4E-00A0C911CE86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147680" indent="-28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ied by the “WaveOutID”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the Wave Out Rendering filter located in Quartz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912960" y="3211560"/>
            <a:ext cx="731664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424A-5924-41D8-A9A5-CEDA45A5D8D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Class Manager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80520" y="1533240"/>
            <a:ext cx="8534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Sound Render API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4280" indent="-284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t of devices located by the DirectSound  API’s can be found a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KEY_CURRENT_USER\Software\Microsoft\ActiveMovie\devenum\{E0F158E1-CB04-11D0-BD4E-00A0C911CE86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158840" indent="-2746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dentified by the “DSGuid” valu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the DirectSound rendering filter located in Quartz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54380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E30E-EBED-4275-8B48-DA77F805DD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3200"/>
            </a:br>
            <a:r>
              <a:rPr b="0" lang="en-US" sz="2000" spc="-1" strike="noStrike">
                <a:solidFill>
                  <a:srgbClr val="f7e993"/>
                </a:solidFill>
                <a:latin typeface="Arial"/>
              </a:rPr>
              <a:t>Class Manager</a:t>
            </a:r>
            <a:endParaRPr b="0" lang="en-US" sz="20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2819520"/>
            <a:ext cx="899172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43080" y="24382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542720" y="289548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1015920"/>
            <a:ext cx="4572000" cy="10670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1473120"/>
            <a:ext cx="10666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Cap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505320" y="1473120"/>
            <a:ext cx="1066680" cy="457200"/>
          </a:xfrm>
          <a:prstGeom prst="rect">
            <a:avLst/>
          </a:prstGeom>
          <a:solidFill>
            <a:srgbClr val="474f5b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00600" y="1473120"/>
            <a:ext cx="15238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Sound Render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00400" y="1701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0" y="1701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045960" y="106668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Show Gra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4920" y="1523880"/>
            <a:ext cx="12952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04920" y="2209680"/>
            <a:ext cx="12952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DMAud.Dr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04920" y="2895480"/>
            <a:ext cx="129528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DMAud.S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3962520"/>
            <a:ext cx="3124080" cy="23619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29924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295280" y="5105520"/>
            <a:ext cx="1662120" cy="6886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01840" y="5457960"/>
            <a:ext cx="1395360" cy="2984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54100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50800" y="5105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90680" y="503244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62280" y="503244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447920" y="4800240"/>
            <a:ext cx="144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19520" y="4800600"/>
            <a:ext cx="144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17640" y="4478400"/>
            <a:ext cx="106344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441972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14600" y="4495680"/>
            <a:ext cx="1063800" cy="3225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515320" y="4419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388620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7180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95480" y="441972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009800" y="4422600"/>
            <a:ext cx="1332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066680" y="3962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90720" y="388620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20" y="40384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6240" y="4038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06668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066680" y="2666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066680" y="1980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1752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3962520"/>
            <a:ext cx="4114800" cy="23619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642640" y="5867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62720" y="5105520"/>
            <a:ext cx="1662120" cy="8380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703840" y="5562720"/>
            <a:ext cx="1395360" cy="29844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5562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1788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57760" y="503244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29360" y="503244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15000" y="4800240"/>
            <a:ext cx="144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86600" y="4800600"/>
            <a:ext cx="1440" cy="23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4720" y="4478400"/>
            <a:ext cx="1063800" cy="322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257800" y="441972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781680" y="4495680"/>
            <a:ext cx="1063800" cy="3225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82400" y="4419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010280" y="388620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8660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029360" y="439596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657760" y="4422600"/>
            <a:ext cx="13356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715000" y="3962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3886200"/>
            <a:ext cx="13356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726800" y="40384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317000" y="4038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4419720" y="472392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41972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343400" y="388620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7162920" y="4723920"/>
            <a:ext cx="11430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30592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886200"/>
            <a:ext cx="1332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876920" y="2209680"/>
            <a:ext cx="1447560" cy="4572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Sound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48640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86400" y="33526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0125-4F3A-4245-A0E4-F06BADBB0DF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 Kernel Streaming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(DirectKS)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80520" y="1573200"/>
            <a:ext cx="841068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64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KS is a user mode library that applications can link 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64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vides an API for enumerating and opening the various Audio Device Interface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64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 opening an instance of a devices KSCATEGORY_AUDIO Interface, the application is able to bypass the Windows audio stack and communicate directly with the class driv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219320" y="5410080"/>
            <a:ext cx="3581280" cy="106704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5867280"/>
            <a:ext cx="167652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38280" y="594360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208600" y="54864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600200" y="5334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91120" y="5334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54864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10240" y="54864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76320" y="4648320"/>
            <a:ext cx="914400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19400" y="42670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619040" y="472428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219320" y="3581280"/>
            <a:ext cx="3657600" cy="838440"/>
          </a:xfrm>
          <a:prstGeom prst="rect">
            <a:avLst/>
          </a:prstGeom>
          <a:gradFill rotWithShape="0">
            <a:gsLst>
              <a:gs pos="0">
                <a:srgbClr val="474f5b"/>
              </a:gs>
              <a:gs pos="100000">
                <a:srgbClr val="3e4650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1148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15200" y="3733920"/>
            <a:ext cx="1295280" cy="5331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61960" y="380988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676520" y="41144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3886200"/>
            <a:ext cx="2361960" cy="228600"/>
          </a:xfrm>
          <a:prstGeom prst="leftRightArrow">
            <a:avLst>
              <a:gd name="adj1" fmla="val 50000"/>
              <a:gd name="adj2" fmla="val 205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54200" y="403848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face Enum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1BA8-6690-4233-A29D-D087EB778BE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 Kernel Streaming </a:t>
            </a: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(DirectKS)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s purpo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n application with more control over the audio 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not be able to open a pin if that pin is already being used by Sys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in is in use by DirectKS then SysAudio will not be able to ope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low level knowledge of Kernel Streaming IRP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not overcome thread scheduling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60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 DirectKS @ Microsof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6E50-64C7-450E-B85E-F063336CA80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8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Interfac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Audio System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Filte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cy Wave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Sound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Show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1D96-7908-45F0-966A-444BB7E9319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724120"/>
            <a:ext cx="80773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ndows XP Audio Architecture – Kernel Mode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Additional Resource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49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66"/>
                </a:solidFill>
                <a:uFillTx/>
                <a:latin typeface="Arial"/>
                <a:hlinkClick r:id="rId1"/>
              </a:rPr>
              <a:t>http://www.microsoft.com/</a:t>
            </a:r>
            <a:r>
              <a:rPr b="0" lang="en-US" sz="2400" spc="-1" strike="noStrike" u="sng">
                <a:solidFill>
                  <a:srgbClr val="66cc66"/>
                </a:solidFill>
                <a:uFillTx/>
                <a:latin typeface="Arial"/>
                <a:hlinkClick r:id="rId2"/>
              </a:rPr>
              <a:t>whdc/hwdev/tech/audio/default.msp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84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Started With WDM Audio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84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o Driver Support for the WMA Pro-over-S/PDIF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84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ave Port Driver for Real Time Audio Stream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Platform AV Respons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Audio Architecture – State of the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a Great Media Center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 Audio ATE sessions: 5/5 - 2:00 PM, 5/5 - 4:30 PM and 5/6 - 4:00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1CBA-FE56-46E5-A083-27CEE010D98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ommunity Resource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0320" indent="-400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1"/>
              </a:rPr>
              <a:t>http://www.microsoft.com/communities/default.m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News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2"/>
              </a:rPr>
              <a:t>http://communities2.microsoft.com/communities/newsgroups/en-us/default.a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 a free chat or web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http://www.microsoft.com/communities/chats/default.m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4"/>
              </a:rPr>
              <a:t>http://www.microsoft.com/seminar/events/webcasts/default.m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a local user group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5"/>
              </a:rPr>
              <a:t>http://www.microsoft.com/communities/usergroups/default.m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Microsoft Community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8080" indent="-345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66"/>
                </a:solidFill>
                <a:uFillTx/>
                <a:latin typeface="Arial"/>
                <a:hlinkClick r:id="rId6"/>
              </a:rPr>
              <a:t>http://www.microsoft.com/communities/related/default.m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E8B9-CEBE-47E3-A565-E457B442C30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Call To Action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5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your drivers behavior with the various audio API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AP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S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ools found in the DDK to help de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Edt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1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SStudio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debug tracing of audio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F28B-62EF-4502-B0D1-C1DC1BFE81A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985680" y="3086280"/>
            <a:ext cx="71726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520" y="3052080"/>
            <a:ext cx="73868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Enabling Debug Output In System Component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66840" y="1905120"/>
            <a:ext cx="84103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BG to enable trace logging within the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7680" indent="-388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“Driver Development Tools” Section of the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7680" indent="-388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66"/>
                </a:solidFill>
                <a:uFillTx/>
                <a:latin typeface="Arial"/>
                <a:hlinkClick r:id="rId1"/>
              </a:rPr>
              <a:t>http://www.microsoft.com/whdc/ddk/debugging/default.m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ed Builds of the specific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5210-5D3E-4137-AC3F-353505C5CDD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Enabling Debug Output In System Component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66840" y="1904760"/>
            <a:ext cx="84103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9880" indent="-389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MM.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365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MM!winmmDebug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1040" indent="-271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x00 = Show only fatal error messages and ass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040" indent="-271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x01 = (Default) - Also show non-fatal errors and return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040" indent="-271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x02 = Also show trace mess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040" indent="-2718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x04 = Show Every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9880" indent="-389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.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365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am!Stream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365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to 0x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880" indent="-389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.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365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audio!sysaudiotrace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365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between 0x00 and 0xFF for various levels of debug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581A-5CF0-4B40-99FB-473CB11D83E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Enabling Debug Output In System Component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1068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Cls.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cls!PORTCLSDe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between 0x00 and 0x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Aud.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dmaud!uiDebug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between 0x04 and 0x1000 for various levels of debug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69AE-A643-4190-84BA-5906F389EA4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Enabling Debug Output In System Components</a:t>
            </a:r>
            <a:endParaRPr b="0" lang="en-US" sz="48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10680" cy="40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S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240" indent="-252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\HKEY_LOCAL_MACHINE\SOFTWARE\Debug\GLOBAL\TR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240" indent="-252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\HKEY_LOCAL_MACHINE\SOFTWARE\Debug\&lt;Filter.AX&gt;\TRA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irectx9_c/directX/htm/debugoutputfunctions.asp?frame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l Debug Version from DirectX SD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the debug level range from 0 to 5 using Debug Output Level slider on the DirectSound page of the DirectX Properties in Control Pa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30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irectx9_c/directX/htm/debuggingdirectsoundprojects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5E1C-2F6C-4563-86A3-1BEF74E9FE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ortCls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10680" cy="43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udio Class Driver provides the mechanism for registering the Device Interface Class for a mini-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3280" indent="-38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PCFILTER_DESCRIPTOR.Categories as specified by mini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3280" indent="-38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t specified PortCls default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SCATEGORY_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5E59-CD4B-44A4-A031-78BFFF81DA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 </a:t>
            </a: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10680" cy="437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drivers to be grouped by capabilities by registering under a specific De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RegisterDeviceInterfac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or discoverability of drivers within a specific Device Interfac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GetDeviceInterfaces(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or arrival and removal notification of a device for a specific DeviceInterfac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03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RegisterPlugPlayNotification(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F3B8-F91F-46F9-9771-D4EAE8258C7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AVStream, Stream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66840" y="1905120"/>
            <a:ext cx="8410320" cy="41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Audio Class Driver provides the mechanism for registering the Device Interface Class for a mini-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92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KSFILTER_DESCRIPTOR.Categor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d in KsInitializeDriv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92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StreamHeader-&gt;Topology-&gt;Categories passed back in respone to the SRB_GET_STREAM_INFO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2D87-F7D8-432B-B899-CDB22BD9774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10680" cy="39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udio Class Driver provides the mechanism for registering the Device Interface Class for a mini-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3280" indent="-38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INF F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36640" indent="-331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samp.RunOnce.AddReg]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KLM,%RunOnce%,"samp.Reader.Audio",,"rundll32.exe streamci,StreamingDeviceSetup %samp.DeviceId%,%KSSTRING_Filter%,%KSCATEGORY_AUDIO%,%17%\samp.inf,samp.Reader.Instal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1170-26C4-4A5E-AD33-6F94AA3B742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8591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Debugging Purposes:</a:t>
            </a:r>
            <a:br>
              <a:rPr sz="18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KEY_LOCAL_MACHINE\SYSTEM\CurrentControlSet\Control\DeviceClasses\{fbf6f530-07b9-11d2-a71e-0000f8004788}\##?#SW#{a7c7a5b0-5af3-11d1-9ced-00a024bf0407}#{9B365890-165F-11D0-A195-0020AFD156E4}#{fbf6f530-07b9-11d2-a71e-0000f8004788}\SAD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2971800"/>
            <a:ext cx="3581280" cy="35053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813840" y="5943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4648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334120" y="4648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962520" y="4266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10080" y="4267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124080" y="3733920"/>
            <a:ext cx="1219320" cy="5331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200400" y="380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800600" y="3733920"/>
            <a:ext cx="1219320" cy="53316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877640" y="38098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876920" y="36576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2971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334120" y="36576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41008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715000" y="36576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9132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36576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3962520" y="2971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276720" y="36576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3526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886200" y="2895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876920" y="2895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126600" y="43434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488200" y="43434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19520" y="28954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34120" y="2971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6600" y="25272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048120" y="226836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0" y="227664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733920" y="4724280"/>
            <a:ext cx="190476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86200" y="518148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038480" y="525780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37520" y="4724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8443-BC4D-4CAA-AE51-5556A670FC14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2590920" y="1643040"/>
            <a:ext cx="6400800" cy="5181480"/>
          </a:xfrm>
          <a:prstGeom prst="rect">
            <a:avLst/>
          </a:prstGeom>
          <a:solidFill>
            <a:srgbClr val="474f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ound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Node Order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95680" y="19479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495680" y="33195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SUPERMI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495680" y="40053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495680" y="46911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SR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495680" y="53769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S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60627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DA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210024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8991720" y="606276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2023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SPIN_DATAFLOW_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90920" y="217656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95680" y="2633760"/>
            <a:ext cx="3276720" cy="38088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NODETYPE_3D_EFF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772400" y="621504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867280" y="2328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867280" y="3014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867280" y="37004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386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867280" y="5072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867280" y="5757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518920" y="4005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vides pann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202920" y="27097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120B-C2C7-4E06-9579-D8F4FFA63C9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1905120"/>
            <a:ext cx="9144000" cy="3362040"/>
          </a:xfrm>
          <a:prstGeom prst="rect">
            <a:avLst/>
          </a:prstGeom>
          <a:solidFill>
            <a:srgbClr val="5c93d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ound Architectur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Node Order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220968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CONNECTION_DESCRIPTOR MiniportConnections[] 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7e993"/>
                </a:solidFill>
                <a:latin typeface="Arial"/>
              </a:rPr>
              <a:t>{ PCFILTER_NODE,        KSPIN_WAVE_CAPTURE_SOURCE,  KSNODE_WAVE_ADC,     1 },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e993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7e993"/>
                </a:solidFill>
                <a:latin typeface="Arial"/>
              </a:rPr>
              <a:t>{ KSNODE_WAVE_ADC,      0,                          PCFILTER_NODE,       KSPIN_WAVE_CAPTURE_SINK },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PCFILTER_NODE,        KSPIN_WAVE_RENDER_SINK,     KSNODE_WAVE_VOLUME1, 1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VOLUME1,  0,                          KSNODE_WAVE_SUPERMIX,1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SUPERMIX, 0,                          KSNODE_WAVE_VOLUME2, 1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VOLUME2,  0,                          KSNODE_WAVE_SRC,     1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SRC,      0,                          KSNODE_WAVE_SUM,     1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SUM,      0,                          KSNODE_WAVE_DAC,     1 },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 KSNODE_WAVE_DAC,      0,                          PCFILTER_NODE,       KSPIN_WAVE_RENDER_SOURCE },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59960" y="5562720"/>
            <a:ext cx="46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ore details see the 2D hardware sample in the ddk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:\winddk\src\wdm\audio\msvad\ds2dh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5544-ECFE-4315-8F11-F352104ED10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DirectShow Filter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7804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5200" indent="-295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ystem Device Enumerator Com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CreateDevEnum *pSysDevEnum = NUL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r = CoCreateInstance(CLSID_SystemDeviceEnum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NULL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CLSCTX_INPROC_SERVER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IID_ICreateDevEnum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(void **)&amp;pSysDevEnum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Enumerator Com object: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EnumMoniker *pEnumCat = NULL;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SysDevEnum-&gt;CreateClassEnumerator(CLSID_VideoCompressorCategory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&amp;pEnumCat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0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list of filter categories: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dio Capture Sourc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SID_AudioInputDeviceCategor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dio Compresso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SID_AudioCompressorCategor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dio Render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SID_AudioRendererCategor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Show Filt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SID_LegacyAmFilterCategor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DM Streaming Capture Devic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_KSCATEGORY_CAP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DM Streaming Rendering Devic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_KSCATEGORY_REND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6CDC-5DDD-4CE0-9737-D0B9B58FF4B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Plug And Play Enumera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1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DirectShow Support, your INF should include the statem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[AC97SMPL.Interfaces]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Interface=%KSCATEGORY_AUDIO%,%KSNAME_Wave%,AC97SMPL.Interface.Wav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Interface=%KSCATEGORY_RENDER%,%KSNAME_Wave%,AC97SMPL.Interface.Wav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Interface=%KSCATEGORY_CAPTURE%,%KSNAME_Wave%,AC97SMPL.Interface.Wav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Interface=%KSCATEGORY_AUDIO%,%KSNAME_Topology%,AC97SMPL.Interface.Topology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[AC97SMPL.Interface.Wave]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Reg=AC97SMPL.I.Wave.AddReg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[AC97SMPL.I.Wave.AddReg]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KR,,CLSID,,%Proxy.CLSID%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KR,,FriendlyName,,%AC97SMPL.Wave.szPname%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[Strings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xy.CLSID="{17CCA71B-ECD7-11D0-B908-00A0C9223196}“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SCATEGORY_AUDIO="{6994AD04-93EF-11D0-A3CC-00A0C9223196}“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SCATEGORY_RENDER="{65E8773E-8F56-11D0-A3B9-00A0C9223196}“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SCATEGORY_CAPTURE="{65E8773D-8F56-11D0-A3B9-00A0C9223196}“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SNAME_Wave="Wave“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SNAME_Topology="Topology“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pecifies the Microsoft provided KSPROXY.AX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DirectShow filter for your de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B9E8-68D5-4D1C-9B10-2A38A4EB12E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irectShow Architecture 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80520" y="1471680"/>
            <a:ext cx="853452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oftware Class covers DirectShow Filters listed und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47680" indent="-2840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KEY_CLASSES_ROOT\CLSID\{083863F1-70DE-11d0-BD40-00A0C911CE86}\Insta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entry points to its own DirectShow Fil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ne of these filters represent your audio device but may connect to the input or output pin of a filter that represents your devi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oftware Enumerator appends “ @ device:sw:” to the device 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1828800" y="3168720"/>
            <a:ext cx="4975200" cy="3308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3268800" y="3871800"/>
            <a:ext cx="914400" cy="381240"/>
          </a:xfrm>
          <a:prstGeom prst="ellipse">
            <a:avLst/>
          </a:prstGeom>
          <a:noFill/>
          <a:ln w="25560">
            <a:solidFill>
              <a:srgbClr val="f98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940200" y="3012840"/>
            <a:ext cx="631800" cy="858600"/>
          </a:xfrm>
          <a:prstGeom prst="line">
            <a:avLst/>
          </a:prstGeom>
          <a:ln w="9360">
            <a:solidFill>
              <a:srgbClr val="f982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4F73-4D0A-4DAB-87EA-00108EE80317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Audio Categories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106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CATEGORY_AUDIO is the primary Device Interface Class for WDM Audio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ther secondary catego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CATEGORY_CA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CATEGORY_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CATEGORY_DATATRANS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CATEGORY_MIX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47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CATEGORY_SPL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0DB4-0813-4262-89B5-8260C3D063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Device Interface Classes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KSCATEGORY_AUDIO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1068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KSCATEGORY_AUDIO Interface is the representation of the Audio Device as exposed by the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P’s sent to KSCATEGORY_AUDIO go directly to the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the lowest level of access to the audio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572000"/>
            <a:ext cx="3886200" cy="1752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5760" y="5334120"/>
            <a:ext cx="1981080" cy="79992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44960" y="5562720"/>
            <a:ext cx="12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65960" y="4724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4495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00400" y="3657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3657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1160" y="32767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apture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3320" y="3276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nder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5F8E-1BF5-4BD5-8D13-88F652D139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518148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1160" y="5867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Arial"/>
              </a:rPr>
              <a:t>System Audio Device</a:t>
            </a:r>
            <a:br>
              <a:rPr sz="44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Device Detection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9440" y="1905120"/>
            <a:ext cx="508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Audio Monitors KSCATEGORY_AUDI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Interface Class Regi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464832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191120"/>
            <a:ext cx="190476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8680" y="52578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9200" y="4800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6576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1148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1911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2200" y="36576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872200">
            <a:off x="1620360" y="416196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SCATEGORY_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365760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74f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228600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212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FEE4-BD68-4EF0-9B83-9890E4C0B4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28800" y="518148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41160" y="5867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Arial"/>
              </a:rPr>
              <a:t>System Audio Device</a:t>
            </a:r>
            <a:br>
              <a:rPr sz="4800"/>
            </a:br>
            <a:r>
              <a:rPr b="0" lang="en-US" sz="3600" spc="-1" strike="noStrike">
                <a:solidFill>
                  <a:srgbClr val="f7e993"/>
                </a:solidFill>
                <a:latin typeface="Arial"/>
              </a:rPr>
              <a:t>SysAudio.sys Graph Building</a:t>
            </a:r>
            <a:endParaRPr b="0" lang="en-US" sz="3600" spc="-1" strike="noStrike">
              <a:solidFill>
                <a:srgbClr val="ffb60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86000"/>
            <a:ext cx="3581280" cy="403848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64832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4191120"/>
            <a:ext cx="190476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8680" y="52578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9200" y="4800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52120" y="57913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1055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74f5b"/>
                </a:solidFill>
                <a:latin typeface="Arial"/>
              </a:rPr>
              <a:t>WaveP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495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2400" y="4495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008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581280"/>
            <a:ext cx="121896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3581280"/>
            <a:ext cx="1219320" cy="53352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92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Mi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91520" y="22860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5053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400800" y="22856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9132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22096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365760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74f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3040" y="1905120"/>
            <a:ext cx="442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PROPERTY_PIN_CIN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PROPERTY_PIN_DATA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PROPERTY_PIN_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SPROPERTY_PIN_COMMUN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868000">
            <a:off x="2038320" y="420408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CTL_KS_PROP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5240" y="41911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68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6576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1148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911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2200" y="36576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572000"/>
            <a:ext cx="1905120" cy="1143000"/>
          </a:xfrm>
          <a:prstGeom prst="plus">
            <a:avLst>
              <a:gd name="adj" fmla="val 0"/>
            </a:avLst>
          </a:prstGeom>
          <a:solidFill>
            <a:srgbClr val="5c93d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5029200"/>
            <a:ext cx="1600200" cy="495360"/>
          </a:xfrm>
          <a:prstGeom prst="rect">
            <a:avLst/>
          </a:prstGeom>
          <a:solidFill>
            <a:srgbClr val="f9823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1055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-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5800" y="4572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7A44-60D3-40B3-94EA-D9908D4048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9:01:43Z</dcterms:created>
  <dc:creator>Richard Fricks</dc:creator>
  <dc:description>Event date: May 4-7 2004
Location: Seattle WA
Audience: developers, partners, OEMs, hardware manufacturers, ISVs
Formatter: Andy Toth, SFP</dc:description>
  <dc:language>en-US</dc:language>
  <cp:lastModifiedBy>administrateur</cp:lastModifiedBy>
  <cp:lastPrinted>2003-04-11T00:49:45Z</cp:lastPrinted>
  <dcterms:modified xsi:type="dcterms:W3CDTF">2005-04-24T17:05:54Z</dcterms:modified>
  <cp:revision>203</cp:revision>
  <dc:subject>WinHec 2004</dc:subject>
  <dc:title>Windows XP Audio Architecture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